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B25-34EA-4A5E-849C-0204FBC1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B24-8FFA-4077-AE03-36A51A6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AFC-7382-4D45-9095-AAB4FD6E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58B-15D4-48DA-82EA-AE8C1176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EB6-F861-48A3-9AF0-8A1B5505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E8F-6DFE-4C58-B5E5-63E7F12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056-9C85-4F9C-9A91-03FB5363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BFE-69B7-48CF-91D1-2F77503A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E93-2FD9-4706-9D4F-57A99EE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C15-6C88-4A4B-A147-AE4DA6B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E68-589B-439E-94C4-E17D9E5C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3F4-1F58-44BD-9BEE-2851FCD8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707-A19E-4AB0-9500-C3719D2A7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979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177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GUIA DESPACH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563920"/>
            <a:ext cx="216036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IMIR Y ENVI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35592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PCION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rot="16200000">
            <a:off x="4031640" y="16635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2"/>
            <a:endCxn id="45" idx="0"/>
          </p:cNvCxnSpPr>
          <p:nvPr/>
        </p:nvCxnSpPr>
        <p:spPr>
          <a:xfrm rot="16200000">
            <a:off x="4031280" y="3247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rot="16200000">
            <a:off x="4031280" y="24559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059280" y="5011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FACTUR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0115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R BOLETA HONORARIO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5" idx="2"/>
            <a:endCxn id="43" idx="0"/>
          </p:cNvCxnSpPr>
          <p:nvPr/>
        </p:nvCxnSpPr>
        <p:spPr>
          <a:xfrm rot="5400000">
            <a:off x="2411280" y="3283920"/>
            <a:ext cx="1079640" cy="23767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 rot="16200000">
            <a:off x="3599640" y="4471920"/>
            <a:ext cx="1079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50" idx="0"/>
          </p:cNvCxnSpPr>
          <p:nvPr/>
        </p:nvCxnSpPr>
        <p:spPr>
          <a:xfrm flipH="1" rot="16200000">
            <a:off x="4788000" y="3283560"/>
            <a:ext cx="1079640" cy="23770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1" idx="0"/>
          </p:cNvCxnSpPr>
          <p:nvPr/>
        </p:nvCxnSpPr>
        <p:spPr>
          <a:xfrm rot="5400000">
            <a:off x="3960000" y="799560"/>
            <a:ext cx="359640" cy="1440"/>
          </a:xfrm>
          <a:prstGeom prst="bentConnector3">
            <a:avLst>
              <a:gd name="adj1" fmla="val 18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059280" y="587700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LETA HONOR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5" idx="0"/>
          </p:cNvCxnSpPr>
          <p:nvPr/>
        </p:nvCxnSpPr>
        <p:spPr>
          <a:xfrm rot="16200000">
            <a:off x="399492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6" idx="0"/>
          </p:cNvCxnSpPr>
          <p:nvPr/>
        </p:nvCxnSpPr>
        <p:spPr>
          <a:xfrm rot="16200000">
            <a:off x="637164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299280" y="371628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 RECEPCIÓ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STENCIAS VS DOCTOS X 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99280" y="2995560"/>
            <a:ext cx="216036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RESO INVENTARI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TARJETA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5" idx="3"/>
            <a:endCxn id="59" idx="1"/>
          </p:cNvCxnSpPr>
          <p:nvPr/>
        </p:nvCxnSpPr>
        <p:spPr>
          <a:xfrm>
            <a:off x="5219640" y="364392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3"/>
            <a:endCxn id="60" idx="1"/>
          </p:cNvCxnSpPr>
          <p:nvPr/>
        </p:nvCxnSpPr>
        <p:spPr>
          <a:xfrm flipV="1">
            <a:off x="5219640" y="3283560"/>
            <a:ext cx="1080000" cy="360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82560" y="5877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AS PROVE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43" idx="2"/>
            <a:endCxn id="63" idx="0"/>
          </p:cNvCxnSpPr>
          <p:nvPr/>
        </p:nvCxnSpPr>
        <p:spPr>
          <a:xfrm rot="16200000">
            <a:off x="1618560" y="5732280"/>
            <a:ext cx="289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62520" y="4292640"/>
            <a:ext cx="36036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3360"/>
            <a:ext cx="2952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53737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537372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406404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3344760"/>
            <a:ext cx="14292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7628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79560"/>
            <a:ext cx="165564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440" y="1206360"/>
            <a:ext cx="109440" cy="135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165564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4-19T05:39:22Z</dcterms:modified>
  <cp:revision>19</cp:revision>
  <dc:subject/>
  <dc:title>Diapositiva 1</dc:title>
</cp:coreProperties>
</file>